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D9B0-BEB5-47B3-BE88-08EE82118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0F18-4A2C-4285-A33E-CA8A0975C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57E4-8D9F-4E51-9769-B8FBF904B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7699-EB22-4283-9BB9-D6C66B300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C6DD-0812-40FC-84F6-47A0D61A6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20F6-8613-4ABD-9834-8D350C875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4534-E52E-45A7-A207-230D1CBEB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A8A3-8EFB-4F22-8F87-A9F0DBBBE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F395-D887-4A3A-94C2-71790EC12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B5C1-2ED6-45DB-8CC7-038F64AD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EF8D-5CBD-430E-9B48-9515547D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37C7-9ACD-4B29-88CC-C67CE50B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9616D-1DF5-48C3-AE72-39E8C4BB66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harity@afghan.swa.army.mil" TargetMode="External"/><Relationship Id="rId2" Type="http://schemas.openxmlformats.org/officeDocument/2006/relationships/hyperlink" Target="file:///../default.aspx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609480" y="228600"/>
            <a:ext cx="7772400" cy="34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Volunteer Community Relations (VCR) is an all-volunteer program made possible by the generous donations of new and gently used clothing, shoes, toys, blankets, and school supplies from friends &amp; family back h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Thanks for your follow through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Book Antiqua"/>
                <a:hlinkClick r:id="rId1"/>
              </a:rPr>
              <a:t>charity@afghan.swa.army.mil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2314440" y="3809880"/>
            <a:ext cx="4496040" cy="1572120"/>
          </a:xfrm>
          <a:prstGeom prst="rect">
            <a:avLst/>
          </a:prstGeom>
          <a:solidFill>
            <a:srgbClr val="33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VCR Program (Pool Hou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CSTC-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APO, AE 093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867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otos from multiple VCR members &amp; miss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oneteam.centcom.mil/default.aspx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5T15:52:59Z</dcterms:created>
  <dc:creator>samuel.e.timmons</dc:creator>
  <dc:description/>
  <dc:language>en-US</dc:language>
  <cp:lastModifiedBy>samuel.e.timmons</cp:lastModifiedBy>
  <dcterms:modified xsi:type="dcterms:W3CDTF">2008-04-25T15:59:47Z</dcterms:modified>
  <cp:revision>2</cp:revision>
  <dc:subject/>
  <dc:title>VCR Contact / Donation Inform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Picture</vt:lpwstr>
  </property>
</Properties>
</file>